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C8AD-BD40-4217-AEAB-A53CBB74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7CB-8C75-471E-BDC1-20B91C59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D84-FF9E-4291-843C-0B3593BE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6BB-7EBA-42CE-BAAE-4D51D43D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5C87-4C85-41D5-B5A0-D85E0ECB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BBF7-77B1-40DF-B16A-186681C3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8D1D-F2D8-414A-B1B9-98A501E5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0D11-45DA-402C-B1C5-21D10710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A91A-D8C4-4151-89B5-5DEF92A9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D0FE-7AE9-4FC7-9E84-C91FCA8B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F800-90B0-48B4-BF75-5BB4977C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1DB-C0C2-4E48-A47A-C86BB92D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BFEA-0CE2-43AE-9586-3CB6E07F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1C13-F99D-4DFE-A38E-44CCF51A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6677-8337-4813-8E17-3CD829C2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A182-A1FA-4D88-B88A-24C7A36F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FF4C-E960-41E8-89BC-FB232477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BC9-C153-4D60-8727-38282819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93E-1C7D-4953-B0A1-E60C09F7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A1B-5FF8-4B77-9921-C3CFE7DB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3BB-8751-4038-9B3A-16756C42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E31-7F01-40B1-B831-25BCB33C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AB5-3964-4567-BB2E-DE8A7FC6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C96-4999-49A9-B7D3-F8C70BF3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2F5C-7BDA-40D5-9B6C-D40B90A61C9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F2F5-B0B2-471A-BFC4-7A762193B3A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6.xml"/><Relationship Id="rId10" Type="http://schemas.openxmlformats.org/officeDocument/2006/relationships/image" Target="../media/image3.png"/><Relationship Id="rId11" Type="http://schemas.openxmlformats.org/officeDocument/2006/relationships/slide" Target="slide7.xm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Тема:Синонимы и ант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76160" y="4648320"/>
            <a:ext cx="5691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Автор: Субботин Сергей Владимирович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ченик 5 класса «Русской гимназии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Син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Для чего нужны син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Контекстуальные синонимы</a:t>
            </a:r>
            <a:r>
              <a:rPr b="0" lang="ru-RU" sz="4800" spc="-1" strike="noStrike" u="sng">
                <a:solidFill>
                  <a:srgbClr val="f0b854"/>
                </a:solidFill>
                <a:uFillTx/>
                <a:latin typeface="Arial"/>
                <a:hlinkClick r:id="rId7" action="ppaction://hlinksldjump"/>
              </a:rPr>
              <a:t>.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0b854"/>
                </a:solidFill>
                <a:uFillTx/>
                <a:latin typeface="Arial"/>
                <a:hlinkClick r:id="rId9" action="ppaction://hlinksldjump"/>
              </a:rPr>
              <a:t>Ант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0b854"/>
                </a:solidFill>
                <a:uFillTx/>
                <a:latin typeface="Arial"/>
                <a:hlinkClick r:id="rId11" action="ppaction://hlinksldjump"/>
              </a:rPr>
              <a:t>Для чего нужны ант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ин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инонимы – это слова, которые имеют схожее лексическое значение, но пишутся и звучат по-разному (например, дом – здание)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ля чего нужны синонимы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инонимы нужны, чтобы обогатить нашу речь, чтобы она была разнообразной и яркой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акже синонимы помогают нам избежать повторов, тавтологии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Контекстуальные синонимы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Контекстуальные синонимы – это слова, сближение которых по значению происходит лишь в условиях определенного контекста, причем за пределами этого контекста они не являются синонимами (например, «День был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августовский, знойный,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томительно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скучный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»-А.П.Чехов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Ант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 – это слова, которые имеют противоположные лексические значения (например, «большой – маленький; высоко – низко»)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ля чего нужны антонимы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, как и синонимы, нужны нам для того, чтобы наша речь была богатой, разнообразной, живой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 помогают нам избежать повторов в речи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as</cp:lastModifiedBy>
  <dcterms:modified xsi:type="dcterms:W3CDTF">2010-05-18T06:41:0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